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B931-CAAD-4E82-8B8E-FB9EE526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816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1C1E-F600-47DE-8DE4-DDD2DF2E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860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705-5CA3-46DE-8431-03B72152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060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7452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060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7452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E6CF-23E9-4000-8DF2-8C210947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542C-0D44-453F-AC12-92CE5E070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7658-4E92-406E-A454-A0599146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1413-60B1-4F0B-B5F8-1A54C296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F95A-1E97-4E7D-98D8-D8769D86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5261-1968-4237-8C04-CA682541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81CE-FB8B-425B-BEFD-7EE38191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4088-5802-48C3-9020-42B239E7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C5E-1CA8-4902-B540-A0396114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8860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333D-E93F-4700-984D-91F9598A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27241-DF74-4178-A187-D61526DB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680" y="3816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D1CB-BAF5-4E05-8217-BCB6EAC8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8860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F846-A427-4ABF-9643-19E4D240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060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74520" y="990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68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2060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74520" y="38167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7C5D-0BE0-4AED-A32A-716DB5341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8AC8-C239-4E3B-9693-84F6F43F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138-51AB-4E19-85F2-B06C5FC5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2A3-5F83-4EE4-822C-40358129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76320"/>
            <a:ext cx="9144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0144-E4F7-4142-AA1E-5CCE7383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A21-75FE-465B-A07C-D61DBCD0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8600" y="3816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CAC-BC06-42CB-944E-DB427203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8600" y="9907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8167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4CF9-0AD4-42D7-8197-A3E9858D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7a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844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0914-E767-48A4-A8B8-F6BBF56740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7a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D806-2F00-40F4-AD3F-5D7FDC76DD53}" type="slidenum"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d7a"/>
                </a:solidFill>
                <a:latin typeface="Impact"/>
              </a:rPr>
              <a:t>Oracle Academy</a:t>
            </a:r>
            <a:endParaRPr b="0" lang="en-US" sz="44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047480" y="4952880"/>
            <a:ext cx="20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Prof. Sofroni Iulia</a:t>
            </a:r>
            <a:endParaRPr b="0" lang="en-US" sz="1800" spc="-1" strike="noStrike">
              <a:solidFill>
                <a:srgbClr val="80808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LIKE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ELECT * from employee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WHERE first_name LIKE ’%a%’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fiseaza toate persoanele cu un ’a’ oriunde in prenume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ELECT * from employee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WHERE first_name LIKE ’_ _a%’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fiseaza persoanele cu un a pe a treia pozitie din nume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% - oricate caractere (inclusiv nici unul)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_ - un singur caracter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334120" y="3648240"/>
            <a:ext cx="3581280" cy="3209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LIKE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LECT * from employees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WHERE job_title LIKE ’%\_ _ _’   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ESCAPE ’\’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afiseaza persoanele pt. care in job_title, dupa caracterul _ mai exista exact doua caractere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Cu clauza ESCAPE am precizat ca% sau _ precedate de \ vor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i tratate ca si caractere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normale ce trebuie sa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apara in text nu ca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wildchar.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ORDER BY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6553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ELECT * FROM employee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ORDER BY last_name ASC,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                   </a:t>
            </a: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alary DESC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ELECT first_name,salary,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department_id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FROM employee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ORDER BY 2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e sorteaza dupa a doua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expresie din clauza SELECT,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dica dupa salary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5904000" y="380880"/>
            <a:ext cx="324000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d7a"/>
                </a:solidFill>
                <a:latin typeface="Impact"/>
              </a:rPr>
              <a:t>Forma generala a comenzii SELECT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LECT expresii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FROM tabele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WHERE conditii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In clauza select pot aparea coloane, sau expresii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Ordinea operatorilor: * / + -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Operatorii logici: AND, OR (in aceasta ordine)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BETWEEN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LECT * from employees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WHERE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department_id BETWEEN 10 AND 30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Wingdings"/>
                <a:ea typeface="Wingdings"/>
              </a:rPr>
              <a:t>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LECT * from employees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WHERE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department_id &gt;=10 AND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department_id&lt;=30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Departamentul 20 </a:t>
            </a: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ESTE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 afisa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IN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LECT * from employees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WHERE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department_id IN (10,30)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Wingdings"/>
                <a:ea typeface="Wingdings"/>
              </a:rPr>
              <a:t>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SELECT * from employees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WHERE 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department_id=10 OR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department_id=30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Departamentul 20 </a:t>
            </a: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NU ESTE</a:t>
            </a: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 afisa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NULL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5+NULL =&gt; NULL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La ordonare crescatoare valorile NULL sunt puse la sfarsi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ahoma"/>
              </a:rPr>
              <a:t>La ordonare descrescatoare NULL apare la inceput</a:t>
            </a:r>
            <a:endParaRPr b="1" lang="en-US" sz="32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LIAS DE COLOANA (AS)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LECT salary+0.25*salary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ROM employees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LECT salary+0.25*salary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AS ”New Salary”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ROM employees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SELECT salary+0.25*salary 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            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AS New Salary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FROM employees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=&gt;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EROARE</a:t>
            </a:r>
            <a:endParaRPr b="1" lang="en-US" sz="24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6781680" y="457200"/>
            <a:ext cx="1524240" cy="2190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5943600" y="2514600"/>
            <a:ext cx="876240" cy="1886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LIAS DE COLOANA (AS)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ELECT first_name||’ ’||last_name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S  Numele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FROM employee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SELECT first_name||’ ’||last_name 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S ”Numele”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FROM employees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1422360" cy="2590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2"/>
          <a:stretch/>
        </p:blipFill>
        <p:spPr>
          <a:xfrm>
            <a:off x="7761240" y="838080"/>
            <a:ext cx="138276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ALIAS DE COLOANA (AS)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Ghilimelele la alias sunt obligatorii cand: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Aliasul e compus din doua sau mai multe cuvinte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Dorim ca aliasul sa fie scriscu litere mici</a:t>
            </a: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DESCRIBE</a:t>
            </a:r>
            <a:endParaRPr b="0" lang="en-US" sz="4000" spc="-1" strike="noStrike">
              <a:solidFill>
                <a:srgbClr val="003d7a"/>
              </a:solidFill>
              <a:latin typeface="Impact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889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7:43:37Z</dcterms:created>
  <dc:creator>kome</dc:creator>
  <dc:description/>
  <cp:keywords/>
  <dc:language>en-US</dc:language>
  <cp:lastModifiedBy>User</cp:lastModifiedBy>
  <dcterms:modified xsi:type="dcterms:W3CDTF">2012-11-20T19:48:20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41033</vt:lpwstr>
  </property>
</Properties>
</file>